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874-D84B-4DCF-B5A4-D858D212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4BC-93F9-4911-860D-CE47AAD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F96-834D-48BF-93A6-8D9BAC5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FB7-CD3A-4215-BF3D-F53164C2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19EB-7089-4A75-854B-D1FD8F07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FA2F-2B4C-4376-81A5-191D3919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92E-976B-4F79-A225-31058D4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A664-C9EA-4A6B-A874-CEF2B19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D7BE-1457-4724-883F-3AF4913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D3D-91E8-4399-ADA5-B7791B2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D371-4356-4503-BF02-7EE2056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466-F17B-45D9-89AA-2256073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14E1-B9E1-47E0-8761-2AE8617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C60-B108-4407-86FD-731227E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148A-1E29-4F38-BB55-49192DC5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EAB-3B2D-48F1-BEE5-F1C92EB9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D75A-2373-43DD-B761-640A72D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0EA-A281-4580-B345-DD3D1757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744-08F1-4EEB-A53B-153A578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D0E-77B7-490C-98C3-BCAD8A44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E6B-EFDA-4FD4-8B7C-41C0D24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814-4081-481B-B23E-A44A2ED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6D7-C4B4-475F-8E1B-08EFBD8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70C-91CE-488C-B68D-FF66CB2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47BB-EC93-4AA6-A248-BCFB435B3B6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325-97DE-4377-A6E4-E7B80A39096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LICZNIK I MIANOWNIK UŁAM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64000" y="513864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my ułamek      w postaci iloraz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11280" y="1628640"/>
          <a:ext cx="2160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628640"/>
                    <a:ext cx="2160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886280" y="1719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alowan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zęści, co zapis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97720" y="225900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211640" y="2798640"/>
            <a:ext cx="39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iętamy, że kreska ułamkowa zastępuje iloraz, zatem ułamek możemy zapisać j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6640" y="3384720"/>
                <a:ext cx="738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511280" y="998640"/>
            <a:ext cx="68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Figurę podzielono na 8 części. Ile części zamalow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32" descr=""/>
          <p:cNvPicPr/>
          <p:nvPr/>
        </p:nvPicPr>
        <p:blipFill>
          <a:blip r:embed="rId3"/>
          <a:stretch/>
        </p:blipFill>
        <p:spPr>
          <a:xfrm>
            <a:off x="1511280" y="4778280"/>
            <a:ext cx="3916440" cy="117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1280" y="4014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Kostkę czekolady podzielono pomiędzy trójkę dzieci. Każde dziecko otrzymało     czeko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67720" y="513864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16280" y="5859360"/>
                <a:ext cx="203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164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736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4284720"/>
                <a:ext cx="203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21640" y="5815080"/>
                <a:ext cx="809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131328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ek jest inną formą zapisu ilorazu dwóch lic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06640" y="2573280"/>
                <a:ext cx="169524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67000" y="3068640"/>
            <a:ext cx="35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z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360" y="392436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eska ułamkowa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ak dziel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7720" y="473400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now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5:57Z</dcterms:modified>
  <cp:revision>39</cp:revision>
  <dc:subject/>
  <dc:title>Slajd 1</dc:title>
</cp:coreProperties>
</file>